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150-D93C-49E4-AB6A-2A565A10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3BD-97EA-410F-8581-5DDF09CA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35F-C17A-4B74-A660-F9FCED63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EE2-E077-48AC-BE4B-ACABA42B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913-F120-42C5-AE79-C77EA400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316-688B-433C-A397-7AA08F7F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22B-424D-4B9B-BD29-7F62BF62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F3F-BD47-4866-B94E-4ABCD091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BEC-E363-4264-9616-231C32A7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ECA-5831-44B0-9757-1A875D61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2C4-EF28-4847-ACD1-27EA281E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FBE-6396-4DCE-B091-22281E12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7F32-64A0-4896-BE36-5C4C95FBAC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-</cp:lastModifiedBy>
  <dcterms:modified xsi:type="dcterms:W3CDTF">2013-04-29T20:56:43Z</dcterms:modified>
  <cp:revision>10</cp:revision>
  <dc:subject/>
  <dc:title>Слайд 1</dc:title>
</cp:coreProperties>
</file>